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5D6C9-2CEE-412A-AEC8-21575073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83662-7381-4633-B1E2-38204970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475A5-BA40-4B08-908F-C37B61CA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268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72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EFEB9-BA5E-40D8-9B0D-293E4F2F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BDE39-D42D-444B-8655-6145376F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3F3BD-04CC-4B71-83A2-D518F3FF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B53B1-8785-4ADA-AED1-73A4F255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46A0F-9772-4332-91AC-5AC1415C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BCBB7-3793-42CF-8CD1-EE650B4A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72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EA900-B90C-410B-9114-360A3F62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21923-4DF5-4DC0-947B-8C36A193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23383-8A6F-4B9E-8B0F-C364917F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ADD65-67FF-4ACE-9C4F-5E773B5A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B6083-BD5B-4C47-B73B-36BC7EAB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10545-8D22-4F89-BA9C-1805DD7D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F3136-EB44-4265-A217-2DB4606F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564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4268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9972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23BDD-B3D4-4805-979A-6127F994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853D1A-44F5-4A9D-9116-A254F0FD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134F4-A681-42A1-A612-0739615A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7216E-4BD5-44F9-9278-E8C4F0E6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7D713-1CB6-4A08-8E32-A17A5BEA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8A3954-BD0B-498E-B2FC-19C9ABDF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552E3-A09E-461D-A576-3F1FF4C8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72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09101-7081-4FD7-B908-5A625B8B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9DC5A-0B65-4703-88C7-898D943F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6D12C2-66B2-4B1F-B37B-461A2989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413BC-475E-4E0C-B395-3E6A1C35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75E385-B881-44B2-A511-DEAC0BE6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76DD25-850C-4AE1-B009-3AA5E4AB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564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44268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39972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C30D5-15BE-4AC9-BB88-DA59F139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6F13E-00BE-4F05-929A-13AB2A54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A262A-DF8F-43D2-8744-6D654261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72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014EA-29B4-4AB2-865E-BCD0CCCC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5CD84-FDA0-4B4B-BCEA-CA93DBDD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1E761-9216-4218-8A13-1ECD942C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91F78-D8F6-411D-8DA6-89932689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324240" y="5904000"/>
            <a:ext cx="30780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968880" y="5904000"/>
            <a:ext cx="22604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375E-11C2-491E-AAC7-6DBD5198FD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485640" y="5904000"/>
            <a:ext cx="226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4000"/>
          </a:bodyPr>
          <a:p>
            <a:pPr marL="28800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715680" cy="6468840"/>
            <a:chOff x="0" y="0"/>
            <a:chExt cx="9715680" cy="6468840"/>
          </a:xfrm>
        </p:grpSpPr>
        <p:grpSp>
          <p:nvGrpSpPr>
            <p:cNvPr id="42" name=""/>
            <p:cNvGrpSpPr/>
            <p:nvPr/>
          </p:nvGrpSpPr>
          <p:grpSpPr>
            <a:xfrm>
              <a:off x="2916360" y="3343680"/>
              <a:ext cx="6792840" cy="3125160"/>
              <a:chOff x="2916360" y="3343680"/>
              <a:chExt cx="6792840" cy="3125160"/>
            </a:xfrm>
          </p:grpSpPr>
          <p:sp>
            <p:nvSpPr>
              <p:cNvPr id="43" name=""/>
              <p:cNvSpPr/>
              <p:nvPr/>
            </p:nvSpPr>
            <p:spPr>
              <a:xfrm>
                <a:off x="2916360" y="3963960"/>
                <a:ext cx="4860720" cy="25030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037280" y="4003920"/>
                <a:ext cx="2122560" cy="12139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894200" y="5016240"/>
                <a:ext cx="4805280" cy="145080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637160" y="3343680"/>
                <a:ext cx="5072040" cy="312516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594560" y="3473640"/>
                <a:ext cx="2103480" cy="80604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5605560" y="2010600"/>
              <a:ext cx="3078000" cy="230292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715680" cy="266148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321000" y="5904000"/>
            <a:ext cx="3076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965640" y="5904000"/>
            <a:ext cx="2266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DejaVu Serif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5952-F9D3-416A-9393-20595CD76380}" type="slidenum">
              <a:rPr b="0" lang="ru-RU" sz="1200" spc="-1" strike="noStrike">
                <a:solidFill>
                  <a:srgbClr val="ffffff"/>
                </a:solidFill>
                <a:latin typeface="DejaVu Serif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6"/>
          </p:nvPr>
        </p:nvSpPr>
        <p:spPr>
          <a:xfrm>
            <a:off x="485280" y="5907240"/>
            <a:ext cx="2266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9715680" cy="6468840"/>
            <a:chOff x="0" y="0"/>
            <a:chExt cx="9715680" cy="6468840"/>
          </a:xfrm>
        </p:grpSpPr>
        <p:grpSp>
          <p:nvGrpSpPr>
            <p:cNvPr id="91" name=""/>
            <p:cNvGrpSpPr/>
            <p:nvPr/>
          </p:nvGrpSpPr>
          <p:grpSpPr>
            <a:xfrm>
              <a:off x="2916360" y="3343680"/>
              <a:ext cx="6792840" cy="3125160"/>
              <a:chOff x="2916360" y="3343680"/>
              <a:chExt cx="6792840" cy="3125160"/>
            </a:xfrm>
          </p:grpSpPr>
          <p:sp>
            <p:nvSpPr>
              <p:cNvPr id="92" name=""/>
              <p:cNvSpPr/>
              <p:nvPr/>
            </p:nvSpPr>
            <p:spPr>
              <a:xfrm>
                <a:off x="2916360" y="3963960"/>
                <a:ext cx="4860720" cy="25030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037280" y="4003920"/>
                <a:ext cx="2122560" cy="12139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894200" y="5016240"/>
                <a:ext cx="4805280" cy="145080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37160" y="3343680"/>
                <a:ext cx="5072040" cy="312516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594560" y="3473640"/>
                <a:ext cx="2103480" cy="80604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5605560" y="2010600"/>
              <a:ext cx="3078000" cy="230292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9715680" cy="266148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7"/>
          </p:nvPr>
        </p:nvSpPr>
        <p:spPr>
          <a:xfrm>
            <a:off x="3321000" y="5907240"/>
            <a:ext cx="3076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8"/>
          </p:nvPr>
        </p:nvSpPr>
        <p:spPr>
          <a:xfrm>
            <a:off x="6965640" y="5910120"/>
            <a:ext cx="226692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DejaVu Serif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1BEF-B78A-4AC5-8CB3-E3B5CD46173B}" type="slidenum">
              <a:rPr b="0" lang="ru-RU" sz="1200" spc="-1" strike="noStrike">
                <a:solidFill>
                  <a:srgbClr val="ffffff"/>
                </a:solidFill>
                <a:latin typeface="DejaVu Serif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9"/>
          </p:nvPr>
        </p:nvSpPr>
        <p:spPr>
          <a:xfrm>
            <a:off x="485280" y="5904000"/>
            <a:ext cx="2266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8000" y="1628640"/>
            <a:ext cx="9504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Times New Roman"/>
                <a:ea typeface="Arial"/>
              </a:rPr>
              <a:t>МИНИСТЕРСТВО ЗДРАВООХРАНЕНИЯ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Times New Roman"/>
                <a:ea typeface="Arial"/>
              </a:rPr>
              <a:t>ЗАПОРОЖСКОЙ ОБЛАСТИ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ГБУЗ  «Васильевский центр первичной медико-санитарной помощи»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Главный врач – Тертыця Марина Викторовна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356000" y="360360"/>
            <a:ext cx="720720" cy="941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55640" y="431640"/>
            <a:ext cx="813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Times New Roman"/>
              </a:rPr>
              <a:t>Государственное бюджетное учреждение здравоохранения Запорожской области «Васильевский центр первичной медико-санитарной помощи»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4824360"/>
            <a:ext cx="84596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just">
              <a:lnSpc>
                <a:spcPct val="80000"/>
              </a:lnSpc>
              <a:spcBef>
                <a:spcPts val="8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66"/>
                </a:solidFill>
                <a:latin typeface="Garamond"/>
              </a:rPr>
              <a:t>Приглашаем на работу</a:t>
            </a:r>
            <a:endParaRPr b="0" lang="en-US" sz="3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8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66"/>
                </a:solidFill>
                <a:latin typeface="Garamond"/>
              </a:rPr>
              <a:t>                 </a:t>
            </a:r>
            <a:r>
              <a:rPr b="1" lang="ru-RU" sz="3400" spc="-1" strike="noStrike">
                <a:solidFill>
                  <a:srgbClr val="ffff66"/>
                </a:solidFill>
                <a:latin typeface="Garamond"/>
              </a:rPr>
              <a:t>медицинских специалистов!</a:t>
            </a:r>
            <a:endParaRPr b="0" lang="en-US" sz="3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38280" y="1471680"/>
            <a:ext cx="2278080" cy="1708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08320" y="1865160"/>
            <a:ext cx="3303720" cy="2028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797520" y="3240000"/>
            <a:ext cx="2519640" cy="1890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925560" y="3473280"/>
            <a:ext cx="1990800" cy="1320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7093080" y="1182600"/>
            <a:ext cx="2390760" cy="1793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052880" y="863640"/>
            <a:ext cx="5473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Arial"/>
                <a:ea typeface="Arial"/>
              </a:rPr>
              <a:t>Главный врач ГБУЗ «Васильевский центр первичной медико-санитарной помощи» Тертыця Марина Викторовна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"/>
          <p:cNvSpPr/>
          <p:nvPr/>
        </p:nvSpPr>
        <p:spPr>
          <a:xfrm>
            <a:off x="3600360" y="431640"/>
            <a:ext cx="5616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ff"/>
                </a:solidFill>
                <a:latin typeface="Arial"/>
                <a:ea typeface="Arial"/>
              </a:rPr>
              <a:t>Администрация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4248000"/>
            <a:ext cx="28083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ff99ff"/>
                </a:solidFill>
                <a:uFillTx/>
                <a:latin typeface="Arial"/>
                <a:ea typeface="Arial"/>
              </a:rPr>
              <a:t>ТЕРТЫЦЯ Марина Викторовн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26920" y="853920"/>
            <a:ext cx="288144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4000" y="3024360"/>
            <a:ext cx="9001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БУЗ «Васильевский центр первичной медико-санитарной помощи» в настоящее время  - многопрофильное крупное медицинское учреждение, образованное в Щёлковском районе в 1963 году, к настоящему моменту пережившее множество реорганизаций и руководителей.  Учреждение является многофункциональной больницей, имеющей стационар мощностью в 400 коек круглосуточного пребывания, оказывающее квалифицированную и специализированную медицинскую помощь населению Щёлковского района. В состав учреждения входят: 2 стационара хирургического профиля (хирургическое отделение, гинекологическое, травматологическое, урологическое, отделение анестезиологии- реанимации, офтальмологическое, оториноларингологическое,  дневной гинекологический стационар), взрослая и детская поликлиники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900760" y="1585800"/>
            <a:ext cx="965160" cy="1285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760920" y="1560600"/>
            <a:ext cx="1823760" cy="1211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013520" y="237960"/>
            <a:ext cx="2519280" cy="1890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2187720" y="1490760"/>
            <a:ext cx="1277640" cy="1363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2241720" y="168120"/>
            <a:ext cx="2043000" cy="1235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740120" y="142920"/>
            <a:ext cx="1943280" cy="1285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187200" y="168120"/>
            <a:ext cx="1764000" cy="2351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7120" y="406440"/>
            <a:ext cx="81932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Наши ваканс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1" name=""/>
          <p:cNvSpPr/>
          <p:nvPr/>
        </p:nvSpPr>
        <p:spPr>
          <a:xfrm>
            <a:off x="2470320" y="1920960"/>
            <a:ext cx="5213160" cy="41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804080" y="1015920"/>
            <a:ext cx="1641600" cy="1704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74680" y="1015920"/>
            <a:ext cx="1728720" cy="150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2352600" y="1157400"/>
          <a:ext cx="4682880" cy="4598640"/>
        </p:xfrm>
        <a:graphic>
          <a:graphicData uri="http://schemas.openxmlformats.org/drawingml/2006/table">
            <a:tbl>
              <a:tblPr/>
              <a:tblGrid>
                <a:gridCol w="2836440"/>
                <a:gridCol w="1846440"/>
              </a:tblGrid>
              <a:tr h="77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рофессии (специальности), долж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е количество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- терапев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общей прак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– специалист (руководители и их заместител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- статис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- педиат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6T07:50:13Z</dcterms:created>
  <dc:creator>Хмелева Елена Ю.</dc:creator>
  <dc:description/>
  <dc:language>en-US</dc:language>
  <cp:lastModifiedBy>Миронова Екатерина Александровна</cp:lastModifiedBy>
  <dcterms:modified xsi:type="dcterms:W3CDTF">2024-05-06T10:46:39Z</dcterms:modified>
  <cp:revision>116</cp:revision>
  <dc:subject/>
  <dc:title>Государственное бюджетное учреждение здравоохранения Московской области «Мытищинская городская  поликлиника № 5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