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7589-FF8B-4D94-8341-E5EEEDAF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B511-5BB7-4523-80FE-F7253F83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AA54-C96D-451D-9F44-94234617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4CA95-547C-40A0-BABE-972348D6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1FBB7-7C37-4C2E-A689-280DA9CD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8858E-D025-4260-9C07-D1CB8C39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57F05-A4FB-42F3-A14E-1D1548CD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3C6A5-70E6-45F0-BCF3-47B3BE8E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6EB0B-914A-4F3B-AAB2-29597B97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72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BF539-E676-4FCA-AC42-DCD2DC25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EBDF8-3427-42AE-AF28-6052CF42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38356-6EED-4B20-82B3-36E52557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2E4AA-BCD7-47F2-8B9E-C5815AE2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1610D-3626-46EA-81BC-852608DF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1EE79-616F-40DF-ABAD-0F6BFB57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AB4CF-C361-4217-8523-1A4ABBDB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564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4268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9972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53001-93E6-471E-9EA9-7CD409AC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E5491-AFC5-4F54-9C15-66BF3837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D6362-E56B-4DEB-B557-A9794CF8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4D623-73FE-4EF8-AED0-4A2EA2A5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2CA49-5C7C-42C6-845F-BB81522B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CC60F-9101-43B1-83B2-0BA3420E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C888B-9D68-48FA-B383-11878556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72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24CCD-953A-4542-A198-223DC133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A509E-EB95-4FF1-A509-4E134459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A1F5E-8D30-4D35-B4E0-B1B3083C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76B8F-DA1C-4D96-ABB2-E042C755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C8A3D-4E0E-4063-88D8-B723A930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A1D25-74A4-4468-B755-B9FB9888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564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4268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39972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372E3-F95A-444A-86A9-2F4F4938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4256-3DE7-4005-A21F-0265567E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93927-0F66-4B3A-AFD5-118FB133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72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3BC4C-3426-4EA4-8315-02321EE2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8AA75-A0B6-45E8-841E-DA8FCBC1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E7808-CC75-4780-B5E7-8677B37F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33F0F-6EB3-4724-AEC9-4898D3BB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6148-B469-439E-82B2-9C960A60D9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4000"/>
          </a:bodyPr>
          <a:p>
            <a:pPr marL="28800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715680" cy="6468840"/>
            <a:chOff x="0" y="0"/>
            <a:chExt cx="9715680" cy="6468840"/>
          </a:xfrm>
        </p:grpSpPr>
        <p:grpSp>
          <p:nvGrpSpPr>
            <p:cNvPr id="42" name=""/>
            <p:cNvGrpSpPr/>
            <p:nvPr/>
          </p:nvGrpSpPr>
          <p:grpSpPr>
            <a:xfrm>
              <a:off x="2916360" y="3343680"/>
              <a:ext cx="6792840" cy="3125160"/>
              <a:chOff x="2916360" y="3343680"/>
              <a:chExt cx="6792840" cy="3125160"/>
            </a:xfrm>
          </p:grpSpPr>
          <p:sp>
            <p:nvSpPr>
              <p:cNvPr id="43" name=""/>
              <p:cNvSpPr/>
              <p:nvPr/>
            </p:nvSpPr>
            <p:spPr>
              <a:xfrm>
                <a:off x="2916360" y="3963960"/>
                <a:ext cx="4860720" cy="25030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37280" y="4003920"/>
                <a:ext cx="2122560" cy="1213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894200" y="5016240"/>
                <a:ext cx="4805280" cy="145080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637160" y="3343680"/>
                <a:ext cx="5072040" cy="3125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94560" y="3473640"/>
                <a:ext cx="2103480" cy="8060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5605560" y="2010600"/>
              <a:ext cx="3078000" cy="23029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715680" cy="26614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321000" y="5904000"/>
            <a:ext cx="3076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965640" y="590400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DejaVu Serif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0515-C048-49F6-ABDF-8170F0016379}" type="slidenum">
              <a:rPr b="0" lang="ru-RU" sz="1200" spc="-1" strike="noStrike">
                <a:solidFill>
                  <a:srgbClr val="ffffff"/>
                </a:solidFill>
                <a:latin typeface="DejaVu Serif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485280" y="590724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715680" cy="6468840"/>
            <a:chOff x="0" y="0"/>
            <a:chExt cx="9715680" cy="6468840"/>
          </a:xfrm>
        </p:grpSpPr>
        <p:grpSp>
          <p:nvGrpSpPr>
            <p:cNvPr id="91" name=""/>
            <p:cNvGrpSpPr/>
            <p:nvPr/>
          </p:nvGrpSpPr>
          <p:grpSpPr>
            <a:xfrm>
              <a:off x="2916360" y="3343680"/>
              <a:ext cx="6792840" cy="3125160"/>
              <a:chOff x="2916360" y="3343680"/>
              <a:chExt cx="6792840" cy="3125160"/>
            </a:xfrm>
          </p:grpSpPr>
          <p:sp>
            <p:nvSpPr>
              <p:cNvPr id="92" name=""/>
              <p:cNvSpPr/>
              <p:nvPr/>
            </p:nvSpPr>
            <p:spPr>
              <a:xfrm>
                <a:off x="2916360" y="3963960"/>
                <a:ext cx="4860720" cy="25030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37280" y="4003920"/>
                <a:ext cx="2122560" cy="1213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94200" y="5016240"/>
                <a:ext cx="4805280" cy="145080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37160" y="3343680"/>
                <a:ext cx="5072040" cy="3125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94560" y="3473640"/>
                <a:ext cx="2103480" cy="8060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605560" y="2010600"/>
              <a:ext cx="3078000" cy="23029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9715680" cy="26614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7"/>
          </p:nvPr>
        </p:nvSpPr>
        <p:spPr>
          <a:xfrm>
            <a:off x="3321000" y="5907240"/>
            <a:ext cx="3076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8"/>
          </p:nvPr>
        </p:nvSpPr>
        <p:spPr>
          <a:xfrm>
            <a:off x="6965640" y="5910120"/>
            <a:ext cx="22669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DejaVu Serif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B19D-0889-42DA-87A1-493E731F1446}" type="slidenum">
              <a:rPr b="0" lang="ru-RU" sz="1200" spc="-1" strike="noStrike">
                <a:solidFill>
                  <a:srgbClr val="ffffff"/>
                </a:solidFill>
                <a:latin typeface="DejaVu Serif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9"/>
          </p:nvPr>
        </p:nvSpPr>
        <p:spPr>
          <a:xfrm>
            <a:off x="485280" y="590400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8000" y="1628640"/>
            <a:ext cx="9504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Times New Roman"/>
                <a:ea typeface="Arial"/>
              </a:rPr>
              <a:t>МИНИСТЕРСТВО ЗДРАВООХРАНЕНИЯ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Times New Roman"/>
                <a:ea typeface="Arial"/>
              </a:rPr>
              <a:t>ЗАПОРОЖСКОЙ ОБЛАСТ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ГБУЗ  «Васильевский центр первичной медико-санитарной помощи»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Главный врач – Тертыця Марина Викторовна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56000" y="360360"/>
            <a:ext cx="720720" cy="941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55640" y="431640"/>
            <a:ext cx="813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Times New Roman"/>
              </a:rPr>
              <a:t>Государственное бюджетное учреждение здравоохранения Запорожской области «Васильевский центр первичной медико-санитарной помощи»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4824360"/>
            <a:ext cx="84596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just">
              <a:lnSpc>
                <a:spcPct val="80000"/>
              </a:lnSpc>
              <a:spcBef>
                <a:spcPts val="8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66"/>
                </a:solidFill>
                <a:latin typeface="Garamond"/>
              </a:rPr>
              <a:t>Приглашаем на работу</a:t>
            </a:r>
            <a:endParaRPr b="0" lang="en-US" sz="3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8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66"/>
                </a:solidFill>
                <a:latin typeface="Garamond"/>
              </a:rPr>
              <a:t>                 </a:t>
            </a:r>
            <a:r>
              <a:rPr b="1" lang="ru-RU" sz="3400" spc="-1" strike="noStrike">
                <a:solidFill>
                  <a:srgbClr val="ffff66"/>
                </a:solidFill>
                <a:latin typeface="Garamond"/>
              </a:rPr>
              <a:t>медицинских специалистов!</a:t>
            </a:r>
            <a:endParaRPr b="0" lang="en-US" sz="3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8280" y="1471680"/>
            <a:ext cx="2278080" cy="1708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08320" y="1865160"/>
            <a:ext cx="3303720" cy="2028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797520" y="3240000"/>
            <a:ext cx="2519640" cy="189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925560" y="3473280"/>
            <a:ext cx="1990800" cy="1320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093080" y="1182600"/>
            <a:ext cx="2390760" cy="179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052880" y="863640"/>
            <a:ext cx="5473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Arial"/>
                <a:ea typeface="Arial"/>
              </a:rPr>
              <a:t>Главный врач ГБУЗ «Васильевский центр первичной медико-санитарной помощи» Тертыця Марина Викторовна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>
            <a:off x="3600360" y="431640"/>
            <a:ext cx="5616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ff"/>
                </a:solidFill>
                <a:latin typeface="Arial"/>
                <a:ea typeface="Arial"/>
              </a:rPr>
              <a:t>Администрация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248000"/>
            <a:ext cx="28083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ff99ff"/>
                </a:solidFill>
                <a:uFillTx/>
                <a:latin typeface="Arial"/>
                <a:ea typeface="Arial"/>
              </a:rPr>
              <a:t>ТЕРТЫЦЯ Марина Викторовн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853920"/>
            <a:ext cx="288144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3024360"/>
            <a:ext cx="9001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БУЗ «Васильевский центр первичной медико-санитарной помощи» в настоящее время  - многопрофильное крупное медицинское учреждение, образованное в Щёлковском районе в 1963 году, к настоящему моменту пережившее множество реорганизаций и руководителей.  Учреждение является многофункциональной больницей, имеющей стационар мощностью в 400 коек круглосуточного пребывания, оказывающее квалифицированную и специализированную медицинскую помощь населению Щёлковского района. В состав учреждения входят: 2 стационара хирургического профиля (хирургическое отделение, гинекологическое, травматологическое, урологическое, отделение анестезиологии- реанимации, офтальмологическое, оториноларингологическое,  дневной гинекологический стационар), взрослая и детская поликлиники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00760" y="1585800"/>
            <a:ext cx="965160" cy="128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760920" y="1560600"/>
            <a:ext cx="1823760" cy="1211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13520" y="23796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187720" y="1490760"/>
            <a:ext cx="1277640" cy="1363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241720" y="168120"/>
            <a:ext cx="2043000" cy="1235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740120" y="142920"/>
            <a:ext cx="1943280" cy="1285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187200" y="168120"/>
            <a:ext cx="1764000" cy="235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7120" y="406440"/>
            <a:ext cx="81932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Наши ваканс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"/>
          <p:cNvSpPr/>
          <p:nvPr/>
        </p:nvSpPr>
        <p:spPr>
          <a:xfrm>
            <a:off x="2470320" y="1920960"/>
            <a:ext cx="521316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804080" y="1015920"/>
            <a:ext cx="1641600" cy="1704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74680" y="1015920"/>
            <a:ext cx="1728720" cy="15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2352600" y="1157400"/>
          <a:ext cx="4682880" cy="4598640"/>
        </p:xfrm>
        <a:graphic>
          <a:graphicData uri="http://schemas.openxmlformats.org/drawingml/2006/table">
            <a:tbl>
              <a:tblPr/>
              <a:tblGrid>
                <a:gridCol w="2836440"/>
                <a:gridCol w="1846440"/>
              </a:tblGrid>
              <a:tr h="77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фессии (специальности), долж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е количество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- терапе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общей прак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– специалист (руководители и их заместител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- стати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- педиат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6T07:50:13Z</dcterms:created>
  <dc:creator>Хмелева Елена Ю.</dc:creator>
  <dc:description/>
  <dc:language>en-US</dc:language>
  <cp:lastModifiedBy>Миронова Екатерина Александровна</cp:lastModifiedBy>
  <dcterms:modified xsi:type="dcterms:W3CDTF">2024-05-06T10:46:39Z</dcterms:modified>
  <cp:revision>116</cp:revision>
  <dc:subject/>
  <dc:title>Государственное бюджетное учреждение здравоохранения Московской области «Мытищинская городская  поликлиника № 5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